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1.jpeg" ContentType="image/jpeg"/>
  <Override PartName="/ppt/media/image29.png" ContentType="image/png"/>
  <Override PartName="/ppt/media/image18.jpeg" ContentType="image/jpeg"/>
  <Override PartName="/ppt/media/image17.jpeg" ContentType="image/jpeg"/>
  <Override PartName="/ppt/media/image16.wmf" ContentType="image/x-wmf"/>
  <Override PartName="/ppt/media/image27.jpeg" ContentType="image/jpeg"/>
  <Override PartName="/ppt/media/image13.wmf" ContentType="image/x-wmf"/>
  <Override PartName="/ppt/media/image10.png" ContentType="image/png"/>
  <Override PartName="/ppt/media/image1.jpeg" ContentType="image/jpeg"/>
  <Override PartName="/ppt/media/image28.png" ContentType="image/png"/>
  <Override PartName="/ppt/media/image12.wmf" ContentType="image/x-wmf"/>
  <Override PartName="/ppt/media/image30.jpeg" ContentType="image/jpeg"/>
  <Override PartName="/ppt/media/image35.wmf" ContentType="image/x-wmf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8.jpeg" ContentType="image/jpeg"/>
  <Override PartName="/ppt/media/image41.wmf" ContentType="image/x-wmf"/>
  <Override PartName="/ppt/media/image38.png" ContentType="image/png"/>
  <Override PartName="/ppt/media/image33.jpeg" ContentType="image/jpeg"/>
  <Override PartName="/ppt/media/image37.png" ContentType="image/png"/>
  <Override PartName="/ppt/media/image7.png" ContentType="image/png"/>
  <Override PartName="/ppt/media/image15.wmf" ContentType="image/x-wmf"/>
  <Override PartName="/ppt/media/image34.png" ContentType="image/png"/>
  <Override PartName="/ppt/media/image40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1.png" ContentType="image/png"/>
  <Override PartName="/ppt/media/image19.jpeg" ContentType="image/jpeg"/>
  <Override PartName="/ppt/media/image32.gif" ContentType="image/gif"/>
  <Override PartName="/ppt/media/image5.jpeg" ContentType="image/jpeg"/>
  <Override PartName="/ppt/media/image20.wmf" ContentType="image/x-wmf"/>
  <Override PartName="/ppt/media/image26.jpeg" ContentType="image/jpeg"/>
  <Override PartName="/ppt/media/image36.png" ContentType="image/png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B327-0157-4543-9BA9-583F69305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C894-9706-4C59-A787-E28ED2797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318A-1736-4D85-8951-CBC9197B3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3B18-D10E-4466-8153-5D2B9A3DB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8DBF-1845-488D-B019-7E8A6609C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4763-D471-40DE-8BB5-31E785F08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9C88-7F4B-4615-B94D-2A92F0CEE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5C8C-24D3-40E8-BDED-F7919FB2D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479E-A4A1-4EBE-902C-EFF54D6DE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C61C-D1E3-4564-9BE9-A10646E4E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77C2-6F03-4B11-A37D-BCCAE76BC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E2BD-4C22-48B2-97F2-7D855462D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3067-4488-46E7-B2F5-8AD6E1525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31E2-1B4A-49EC-9A08-31C633515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6B31-0D72-49DD-A94A-BAF6DA8CC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B20F-D128-4FB4-B578-A622B3DB0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6089-9478-4392-9353-0DEE131BD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D218-435E-47FB-95A5-66803C77B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B6B4-2D72-4D46-AD58-87120F43F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B2DA-34A8-4842-B83A-F2C3FE062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FDE4-FCC7-477B-AE26-374A72B77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ACC1-E3FE-4C35-BBC2-41287422A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3D46-CD93-4BDB-975B-A27D9462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7347-5D71-4108-B354-3774DD35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515-3021-4BD2-BD79-DC09C5BF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E070-E8A0-488D-A6E6-A3E4291A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2049-B9CC-4736-9658-89542C20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E319-A588-45AC-84E1-EEEB59BC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023-89D5-467D-8610-91BB61FB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1DB-CF08-4A8F-ADA9-9406AA8C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224-3FF2-4D7D-A067-66993CC4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502-263E-4F12-877D-45A5FB20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460-A8DA-4480-B9AA-CD84DFAA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19C5-3357-402F-B73D-A812B593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6B0F-1124-48B8-834E-B5070EE52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21classes.com/" TargetMode="Externa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wikispaces.com/site/for/teachers" TargetMode="External"/><Relationship Id="rId2" Type="http://schemas.openxmlformats.org/officeDocument/2006/relationships/hyperlink" Target="http://pbwiki.com/academic.wiki" TargetMode="External"/><Relationship Id="rId3" Type="http://schemas.openxmlformats.org/officeDocument/2006/relationships/image" Target="../media/image32.gif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ntentkeeper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alancing Safety and Access:  Moving Beyond the Acceptable Use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Bill John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Virginia Beach City Public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William.johnsen@vbschool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Documents and Settings\wjohnsen\Local Settings\Temporary Internet Files\Content.IE5\CVLYPE92\MPj04092680000[1].jpg"/>
          <p:cNvPicPr/>
          <p:nvPr/>
        </p:nvPicPr>
        <p:blipFill>
          <a:blip r:embed="rId1"/>
          <a:stretch/>
        </p:blipFill>
        <p:spPr>
          <a:xfrm>
            <a:off x="380880" y="2286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wjohnsen\Local Settings\Temporary Internet Files\Content.IE5\CVLYPE92\MPj04092680000[1].jpg"/>
          <p:cNvPicPr/>
          <p:nvPr/>
        </p:nvPicPr>
        <p:blipFill>
          <a:blip r:embed="rId2"/>
          <a:stretch/>
        </p:blipFill>
        <p:spPr>
          <a:xfrm>
            <a:off x="990720" y="533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Documents and Settings\wjohnsen\Local Settings\Temporary Internet Files\Content.IE5\CVLYPE92\MPj04092680000[1].jpg"/>
          <p:cNvPicPr/>
          <p:nvPr/>
        </p:nvPicPr>
        <p:blipFill>
          <a:blip r:embed="rId3"/>
          <a:stretch/>
        </p:blipFill>
        <p:spPr>
          <a:xfrm>
            <a:off x="1447920" y="8380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ltering Responsibility in A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FilteringReview.jpg"/>
          <p:cNvPicPr/>
          <p:nvPr/>
        </p:nvPicPr>
        <p:blipFill>
          <a:blip r:embed="rId1"/>
          <a:stretch/>
        </p:blipFill>
        <p:spPr>
          <a:xfrm>
            <a:off x="0" y="1905120"/>
            <a:ext cx="95220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AUP.jpg"/>
          <p:cNvPicPr/>
          <p:nvPr/>
        </p:nvPicPr>
        <p:blipFill>
          <a:blip r:embed="rId1"/>
          <a:stretch/>
        </p:blipFill>
        <p:spPr>
          <a:xfrm>
            <a:off x="457200" y="985680"/>
            <a:ext cx="833112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ages and Image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mit Google Images in a forced Strict SafeSearch m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Keeper will filter most inappropriate im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ther image search engines bloc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C:\Documents and Settings\wjohnsen\Local Settings\Temporary Internet Files\Content.IE5\88KWSMAI\MCj04400360000[1].wmf"/>
          <p:cNvPicPr/>
          <p:nvPr/>
        </p:nvPicPr>
        <p:blipFill>
          <a:blip r:embed="rId1"/>
          <a:stretch/>
        </p:blipFill>
        <p:spPr>
          <a:xfrm>
            <a:off x="7391520" y="4648320"/>
            <a:ext cx="1292040" cy="1828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Documents and Settings\wjohnsen\Local Settings\Temporary Internet Files\Content.IE5\BH1LE94L\MCj03979210000[1].wmf"/>
          <p:cNvPicPr/>
          <p:nvPr/>
        </p:nvPicPr>
        <p:blipFill>
          <a:blip r:embed="rId2"/>
          <a:stretch/>
        </p:blipFill>
        <p:spPr>
          <a:xfrm>
            <a:off x="914400" y="5181480"/>
            <a:ext cx="1111320" cy="132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Documents and Settings\wjohnsen\Local Settings\Temporary Internet Files\Content.IE5\88KWSMAI\MCj02311370000[1].wmf"/>
          <p:cNvPicPr/>
          <p:nvPr/>
        </p:nvPicPr>
        <p:blipFill>
          <a:blip r:embed="rId3"/>
          <a:stretch/>
        </p:blipFill>
        <p:spPr>
          <a:xfrm>
            <a:off x="3429000" y="4724280"/>
            <a:ext cx="19098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oogle Image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Google Images.jpg"/>
          <p:cNvPicPr/>
          <p:nvPr/>
        </p:nvPicPr>
        <p:blipFill>
          <a:blip r:embed="rId1"/>
          <a:stretch/>
        </p:blipFill>
        <p:spPr>
          <a:xfrm>
            <a:off x="3657600" y="1752480"/>
            <a:ext cx="4869000" cy="3048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Google Images2.jpg"/>
          <p:cNvPicPr/>
          <p:nvPr/>
        </p:nvPicPr>
        <p:blipFill>
          <a:blip r:embed="rId2"/>
          <a:stretch/>
        </p:blipFill>
        <p:spPr>
          <a:xfrm rot="970200">
            <a:off x="320400" y="3017880"/>
            <a:ext cx="77724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6840" y="2133720"/>
            <a:ext cx="84582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 flickr site is bloc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urls permitted through Content Kee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brary of Con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flickr.com/photos/library_of_con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Rectangle 3" descr=""/>
          <p:cNvPicPr/>
          <p:nvPr/>
        </p:nvPicPr>
        <p:blipFill>
          <a:blip r:embed="rId1"/>
          <a:stretch/>
        </p:blipFill>
        <p:spPr>
          <a:xfrm>
            <a:off x="298440" y="-49320"/>
            <a:ext cx="8650440" cy="1981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 rot="210600">
            <a:off x="3390480" y="5095440"/>
            <a:ext cx="4686480" cy="13622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LOCStudent.jpg"/>
          <p:cNvPicPr/>
          <p:nvPr/>
        </p:nvPicPr>
        <p:blipFill>
          <a:blip r:embed="rId1"/>
          <a:stretch/>
        </p:blipFill>
        <p:spPr>
          <a:xfrm>
            <a:off x="-46080" y="1219320"/>
            <a:ext cx="9190080" cy="39621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flickr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FlickrBlockStudent.jpg"/>
          <p:cNvPicPr/>
          <p:nvPr/>
        </p:nvPicPr>
        <p:blipFill>
          <a:blip r:embed="rId2"/>
          <a:stretch/>
        </p:blipFill>
        <p:spPr>
          <a:xfrm>
            <a:off x="533520" y="2133720"/>
            <a:ext cx="830556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about Blogg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sion provided blogging site through Edublogs for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ff post with moderated student com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ing permitting students to be added as “users” to a class or teacher blog 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21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fe, secure environment for stud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d by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Point/MOSS2007 in 2009-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C:\Program Files\Microsoft Office\MEDIA\CAGCAT10\j0292020.wmf"/>
          <p:cNvPicPr/>
          <p:nvPr/>
        </p:nvPicPr>
        <p:blipFill>
          <a:blip r:embed="rId2"/>
          <a:stretch/>
        </p:blipFill>
        <p:spPr>
          <a:xfrm>
            <a:off x="7091280" y="4952880"/>
            <a:ext cx="17877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About Wik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mit sites such a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ikispa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BWik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Wet Paint for use by staff and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s are “private” for use with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manage access for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Point/MOSS2007 in 2009-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C:\Program Files\Microsoft Office\MEDIA\CAGCAT10\j0300520.gif"/>
          <p:cNvPicPr/>
          <p:nvPr/>
        </p:nvPicPr>
        <p:blipFill>
          <a:blip r:embed="rId3"/>
          <a:stretch/>
        </p:blipFill>
        <p:spPr>
          <a:xfrm>
            <a:off x="1295280" y="5105520"/>
            <a:ext cx="1371600" cy="117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Documents and Settings\wjohnsen\Local Settings\Temporary Internet Files\Content.IE5\CVLYPE92\MPj04092680000[1].jpg"/>
          <p:cNvPicPr/>
          <p:nvPr/>
        </p:nvPicPr>
        <p:blipFill>
          <a:blip r:embed="rId4"/>
          <a:stretch/>
        </p:blipFill>
        <p:spPr>
          <a:xfrm>
            <a:off x="5181480" y="4495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ideo Conferencing Anyo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.323 capability in distance learning la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bile H.323 units for check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ktop video confere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dows Live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dows Live Messen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Rectangle 3" descr=""/>
          <p:cNvPicPr/>
          <p:nvPr/>
        </p:nvPicPr>
        <p:blipFill>
          <a:blip r:embed="rId1"/>
          <a:stretch/>
        </p:blipFill>
        <p:spPr>
          <a:xfrm>
            <a:off x="1206360" y="4138560"/>
            <a:ext cx="7431120" cy="2365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C:\Documents and Settings\wjohnsen\Local Settings\Temporary Internet Files\Content.IE5\88KWSMAI\MCj03577670000[1].wmf"/>
          <p:cNvPicPr/>
          <p:nvPr/>
        </p:nvPicPr>
        <p:blipFill>
          <a:blip r:embed="rId2"/>
          <a:stretch/>
        </p:blipFill>
        <p:spPr>
          <a:xfrm>
            <a:off x="6705720" y="2516040"/>
            <a:ext cx="12920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cial Networking, Reall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i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book/My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geFlak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ter out inappropriate “flak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ci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2438280" cy="695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 rot="510600">
            <a:off x="5790960" y="1981080"/>
            <a:ext cx="2781360" cy="140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3"/>
          <a:stretch/>
        </p:blipFill>
        <p:spPr>
          <a:xfrm>
            <a:off x="6248520" y="4267080"/>
            <a:ext cx="1838160" cy="676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4"/>
          <a:stretch/>
        </p:blipFill>
        <p:spPr>
          <a:xfrm>
            <a:off x="3733920" y="5257800"/>
            <a:ext cx="1933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ctangle 3" descr=""/>
          <p:cNvPicPr/>
          <p:nvPr/>
        </p:nvPicPr>
        <p:blipFill>
          <a:blip r:embed="rId1"/>
          <a:stretch/>
        </p:blipFill>
        <p:spPr>
          <a:xfrm>
            <a:off x="-360360" y="158760"/>
            <a:ext cx="964404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wjohnsen\Local Settings\Temporary Internet Files\Content.IE5\CVLYPE92\MPj04092680000[1].jpg"/>
          <p:cNvPicPr/>
          <p:nvPr/>
        </p:nvPicPr>
        <p:blipFill>
          <a:blip r:embed="rId2"/>
          <a:stretch/>
        </p:blipFill>
        <p:spPr>
          <a:xfrm>
            <a:off x="838080" y="6858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wjohnsen\Local Settings\Temporary Internet Files\Content.IE5\CVLYPE92\MPj04092680000[1].jpg"/>
          <p:cNvPicPr/>
          <p:nvPr/>
        </p:nvPicPr>
        <p:blipFill>
          <a:blip r:embed="rId3"/>
          <a:stretch/>
        </p:blipFill>
        <p:spPr>
          <a:xfrm>
            <a:off x="6553080" y="4267080"/>
            <a:ext cx="22100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What About Student Emai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entury Ski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to many web 2.0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ion with teac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ge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ggle.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soft Exchange La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gle Apps for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C:\Documents and Settings\wjohnsen\Local Settings\Temporary Internet Files\Content.IE5\BH1LE94L\MPj04330780000[1].jpg"/>
          <p:cNvPicPr/>
          <p:nvPr/>
        </p:nvPicPr>
        <p:blipFill>
          <a:blip r:embed="rId1"/>
          <a:stretch/>
        </p:blipFill>
        <p:spPr>
          <a:xfrm>
            <a:off x="6705720" y="1600200"/>
            <a:ext cx="2030400" cy="1344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C:\Documents and Settings\wjohnsen\Local Settings\Temporary Internet Files\Content.IE5\88KWSMAI\MCj03477090000[1].wmf"/>
          <p:cNvPicPr/>
          <p:nvPr/>
        </p:nvPicPr>
        <p:blipFill>
          <a:blip r:embed="rId2"/>
          <a:stretch/>
        </p:blipFill>
        <p:spPr>
          <a:xfrm>
            <a:off x="6172200" y="4572000"/>
            <a:ext cx="181944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alancing Safety and Access:  Moving Beyond the Acceptable Use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Bill John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Virginia Beach City Public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William.johnsen@vbschool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C:\Documents and Settings\wjohnsen\Local Settings\Temporary Internet Files\Content.IE5\CVLYPE92\MPj04092680000[1].jpg"/>
          <p:cNvPicPr/>
          <p:nvPr/>
        </p:nvPicPr>
        <p:blipFill>
          <a:blip r:embed="rId1"/>
          <a:stretch/>
        </p:blipFill>
        <p:spPr>
          <a:xfrm>
            <a:off x="380880" y="2286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Documents and Settings\wjohnsen\Local Settings\Temporary Internet Files\Content.IE5\CVLYPE92\MPj04092680000[1].jpg"/>
          <p:cNvPicPr/>
          <p:nvPr/>
        </p:nvPicPr>
        <p:blipFill>
          <a:blip r:embed="rId2"/>
          <a:stretch/>
        </p:blipFill>
        <p:spPr>
          <a:xfrm>
            <a:off x="990720" y="533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:\Documents and Settings\wjohnsen\Local Settings\Temporary Internet Files\Content.IE5\CVLYPE92\MPj04092680000[1].jpg"/>
          <p:cNvPicPr/>
          <p:nvPr/>
        </p:nvPicPr>
        <p:blipFill>
          <a:blip r:embed="rId3"/>
          <a:stretch/>
        </p:blipFill>
        <p:spPr>
          <a:xfrm>
            <a:off x="1447920" y="8380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wjohnsen\Local Settings\Temporary Internet Files\Content.IE5\88KWSMAI\MPj04332230000[1].jpg"/>
          <p:cNvPicPr/>
          <p:nvPr/>
        </p:nvPicPr>
        <p:blipFill>
          <a:blip r:embed="rId1"/>
          <a:stretch/>
        </p:blipFill>
        <p:spPr>
          <a:xfrm>
            <a:off x="3048120" y="685800"/>
            <a:ext cx="5894280" cy="589428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3" descr=""/>
          <p:cNvPicPr/>
          <p:nvPr/>
        </p:nvPicPr>
        <p:blipFill>
          <a:blip r:embed="rId2"/>
          <a:stretch/>
        </p:blipFill>
        <p:spPr>
          <a:xfrm>
            <a:off x="30240" y="-274680"/>
            <a:ext cx="5121360" cy="3494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Documents and Settings\wjohnsen\Local Settings\Temporary Internet Files\Content.IE5\CVLYPE92\MCj04325380000[1].png"/>
          <p:cNvPicPr/>
          <p:nvPr/>
        </p:nvPicPr>
        <p:blipFill>
          <a:blip r:embed="rId3"/>
          <a:stretch/>
        </p:blipFill>
        <p:spPr>
          <a:xfrm>
            <a:off x="3657600" y="1244520"/>
            <a:ext cx="45720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Do You Do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C:\Documents and Settings\wjohnsen\Local Settings\Temporary Internet Files\Content.IE5\CVLYPE92\MPj04092680000[1].jpg"/>
          <p:cNvPicPr/>
          <p:nvPr/>
        </p:nvPicPr>
        <p:blipFill>
          <a:blip r:embed="rId1"/>
          <a:stretch/>
        </p:blipFill>
        <p:spPr>
          <a:xfrm>
            <a:off x="2438280" y="1752480"/>
            <a:ext cx="4496040" cy="449604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5" descr=""/>
          <p:cNvPicPr/>
          <p:nvPr/>
        </p:nvPicPr>
        <p:blipFill>
          <a:blip r:embed="rId2"/>
          <a:stretch/>
        </p:blipFill>
        <p:spPr>
          <a:xfrm>
            <a:off x="133200" y="1305000"/>
            <a:ext cx="4189680" cy="375444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6" descr=""/>
          <p:cNvPicPr/>
          <p:nvPr/>
        </p:nvPicPr>
        <p:blipFill>
          <a:blip r:embed="rId3"/>
          <a:stretch/>
        </p:blipFill>
        <p:spPr>
          <a:xfrm>
            <a:off x="4370400" y="1231920"/>
            <a:ext cx="4913280" cy="362124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7" descr=""/>
          <p:cNvPicPr/>
          <p:nvPr/>
        </p:nvPicPr>
        <p:blipFill>
          <a:blip r:embed="rId4"/>
          <a:stretch/>
        </p:blipFill>
        <p:spPr>
          <a:xfrm>
            <a:off x="2511360" y="4413240"/>
            <a:ext cx="442584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ltering in VBC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ntent Kee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ed 2 years a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lly too restrictive for instructional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de changes to set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mitted Help Desk staff to block/unblock with audit done by Computer Security Specia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ed profiles for students and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ltering in VBC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tering Pro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ctional Sta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Instructional Sta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ests and Volunt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(7 differ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tri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C:\Documents and Settings\wjohnsen\Local Settings\Temporary Internet Files\Content.IE5\BH1LE94L\MCj03201680000[1].wmf"/>
          <p:cNvPicPr/>
          <p:nvPr/>
        </p:nvPicPr>
        <p:blipFill>
          <a:blip r:embed="rId1"/>
          <a:stretch/>
        </p:blipFill>
        <p:spPr>
          <a:xfrm>
            <a:off x="6781680" y="4648320"/>
            <a:ext cx="1825920" cy="15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Documents and Settings\wjohnsen\Local Settings\Temporary Internet Files\Content.IE5\S2HBAVTP\MCj03488850000[1].wmf"/>
          <p:cNvPicPr/>
          <p:nvPr/>
        </p:nvPicPr>
        <p:blipFill>
          <a:blip r:embed="rId2"/>
          <a:stretch/>
        </p:blipFill>
        <p:spPr>
          <a:xfrm>
            <a:off x="4952880" y="3886200"/>
            <a:ext cx="1843200" cy="1235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wjohnsen\Local Settings\Temporary Internet Files\Content.IE5\CVLYPE92\MCj03254100000[1].wmf"/>
          <p:cNvPicPr/>
          <p:nvPr/>
        </p:nvPicPr>
        <p:blipFill>
          <a:blip r:embed="rId3"/>
          <a:stretch/>
        </p:blipFill>
        <p:spPr>
          <a:xfrm>
            <a:off x="6400800" y="1828800"/>
            <a:ext cx="18144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ltering in VBC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 by categ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ut 30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ween 6 and 10 are block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mb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ing s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ci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ger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Documents and Settings\wjohnsen\Local Settings\Temporary Internet Files\Content.IE5\BH1LE94L\MCIN00673_0000[1].wmf"/>
          <p:cNvPicPr/>
          <p:nvPr/>
        </p:nvPicPr>
        <p:blipFill>
          <a:blip r:embed="rId1"/>
          <a:stretch/>
        </p:blipFill>
        <p:spPr>
          <a:xfrm>
            <a:off x="6324480" y="1981080"/>
            <a:ext cx="1433520" cy="1635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wjohnsen\Local Settings\Temporary Internet Files\Content.IE5\CVLYPE92\MCIN00602_0000[1].wmf"/>
          <p:cNvPicPr/>
          <p:nvPr/>
        </p:nvPicPr>
        <p:blipFill>
          <a:blip r:embed="rId2"/>
          <a:stretch/>
        </p:blipFill>
        <p:spPr>
          <a:xfrm>
            <a:off x="4876920" y="4572000"/>
            <a:ext cx="17222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ltering in VBC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mb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t ro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ing s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ol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ci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ger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wjohnsen\Local Settings\Temporary Internet Files\Content.IE5\88KWSMAI\MPj04225360000[1].jpg"/>
          <p:cNvPicPr/>
          <p:nvPr/>
        </p:nvPicPr>
        <p:blipFill>
          <a:blip r:embed="rId1"/>
          <a:stretch/>
        </p:blipFill>
        <p:spPr>
          <a:xfrm>
            <a:off x="5562720" y="1905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wjohnsen\Local Settings\Temporary Internet Files\Content.IE5\CVLYPE92\MPj04386840000[1].jpg"/>
          <p:cNvPicPr/>
          <p:nvPr/>
        </p:nvPicPr>
        <p:blipFill>
          <a:blip r:embed="rId2"/>
          <a:stretch/>
        </p:blipFill>
        <p:spPr>
          <a:xfrm>
            <a:off x="6629400" y="27432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Documents and Settings\wjohnsen\Local Settings\Temporary Internet Files\Content.IE5\BH1LE94L\MPj04330780000[1].jpg"/>
          <p:cNvPicPr/>
          <p:nvPr/>
        </p:nvPicPr>
        <p:blipFill>
          <a:blip r:embed="rId3"/>
          <a:stretch/>
        </p:blipFill>
        <p:spPr>
          <a:xfrm>
            <a:off x="4572000" y="4419720"/>
            <a:ext cx="21337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block/Block Site Requ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staff can request through Help De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 Desk staff can unblock/block with review by Computer Security Specia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 referred to Computer Security Specia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lt with Department of Curriculum and Instruction as n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6324480" y="4876920"/>
            <a:ext cx="186876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7:42:54Z</dcterms:created>
  <dc:creator>wjohnsen</dc:creator>
  <dc:description/>
  <dc:language>en-US</dc:language>
  <cp:lastModifiedBy>wjohnsen</cp:lastModifiedBy>
  <dcterms:modified xsi:type="dcterms:W3CDTF">2009-02-19T23:55:04Z</dcterms:modified>
  <cp:revision>39</cp:revision>
  <dc:subject/>
  <dc:title>Balancing Safety and Access:  Moving Beyond the Acceptable Use Policy</dc:title>
</cp:coreProperties>
</file>